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wmf" ContentType="image/x-wmf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38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2.jpeg" ContentType="image/jpeg"/>
  <Override PartName="/ppt/media/image30.jpeg" ContentType="image/jpeg"/>
  <Override PartName="/ppt/media/image7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A02-D1C8-4705-915D-F266AD96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907-7E7B-4784-ABCB-3E58D029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640-E5C9-48E3-A61B-E466F8F0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68F-8DEE-4A0E-9A8D-6302A59E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F829-B772-4785-98ED-A3EB18C5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A097-1634-40A7-96FF-83DC815F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899A-03F7-42AB-9310-39AA4206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0190-60DE-40B4-9810-5773559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9278-947D-4915-8769-D55C416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9675-EBFA-47E5-AA03-5739F0D0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6FCB-77DA-44D7-9C28-30CE1CE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2C0-53A7-4C44-A7A8-035A245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997-8746-41BB-BA7B-7D7656E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7E3A-54CE-4912-B55B-5DAF623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BEE5-7525-415D-AA6A-5ADA8FA3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041E-A1F6-4FA8-A91A-DBF6B5EA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DBCE-8465-4F01-A38C-2784C516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401-45F8-4D16-9ACB-C5F0E1D2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992-97CE-427E-A015-01641F4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1ED-520B-4D80-8626-898E2C0A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026-A934-4BBC-904E-78E281FC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CA8-CF9D-458B-949F-8494079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32D-22AE-4AC0-B3F7-DB567FD7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E15-4DC2-4C90-A982-DE9D253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4787-02AE-4D44-8630-41D2364E7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38A1-DDF9-47FF-B727-D8F911427E3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and Flu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ter heated to a very hig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of the electrons are freed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is a collection of free, electrically charged 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s exist inside st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formation of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are deform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change the shape or size (or both) of an object through the application of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forces are removed, the object tends to its original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deformation that exhib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force per unit area causing the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measure of the amount of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constant of proportionality between stress and str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ufficiently small stresses, the stress is directly proportional to the st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tant of proportionality depends on the material being deformed and the nature of the de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Modul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astic modulus can be thought of as the stiffness of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elastic modulus is very stiff and difficult to de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ous to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981080" y="5410080"/>
          <a:ext cx="61610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10080"/>
                    <a:ext cx="6161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: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in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le stress is the ratio of the external force to the cross-sectional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le is because the bar is under 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astic modulu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oung’s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0903"/>
          <p:cNvPicPr/>
          <p:nvPr/>
        </p:nvPicPr>
        <p:blipFill>
          <a:blip r:embed="rId1"/>
          <a:stretch/>
        </p:blipFill>
        <p:spPr>
          <a:xfrm>
            <a:off x="5145120" y="26082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stress are Pascals, 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nsile strain is the ratio of the change in length to the original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in is dimension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3517920" y="5505480"/>
          <a:ext cx="18018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7920" y="5505480"/>
                    <a:ext cx="1801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’s modulus applies to a stress of either tension or com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possible to exce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lim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longer directly propor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rily does not return to its original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7" descr="0904"/>
          <p:cNvPicPr/>
          <p:nvPr/>
        </p:nvPicPr>
        <p:blipFill>
          <a:blip r:embed="rId1"/>
          <a:stretch/>
        </p:blipFill>
        <p:spPr>
          <a:xfrm>
            <a:off x="5145120" y="2408400"/>
            <a:ext cx="380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ea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ress continues, it surpasses i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ltimate strength is the greatest stress the object can withstand without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eaking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brittle material, the breaking point is just beyond its ultimate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ductile material, after passing the ultimate strength the material thins and stretches at a lower stress level before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ltimate Strength of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material is the maximum force per unit area the material can withstand before it breaks or fa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aterials are stronger in compression than in 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t and Beam Arch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beam is supported by two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Greek te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are closely sp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length of available 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ultimate tensile strength of sagging stone b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7" descr="0907a"/>
          <p:cNvPicPr/>
          <p:nvPr/>
        </p:nvPicPr>
        <p:blipFill>
          <a:blip r:embed="rId1"/>
          <a:stretch/>
        </p:blipFill>
        <p:spPr>
          <a:xfrm>
            <a:off x="5145120" y="232236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appy Monday (Hic!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record (that’s Disc to you young puppies), was spinning at 45 rpm. If I dropped two more identical records on top of the spinning record, what would its new speed be in RP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micircular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the Ro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wide roof span on narrow supporting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bility depends upon the compression of the wedge-shaped s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7" descr="0907b"/>
          <p:cNvPicPr/>
          <p:nvPr/>
        </p:nvPicPr>
        <p:blipFill>
          <a:blip r:embed="rId1"/>
          <a:stretch/>
        </p:blipFill>
        <p:spPr>
          <a:xfrm>
            <a:off x="5145120" y="2184480"/>
            <a:ext cx="38098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thic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used in Europe in th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l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ying buttresses are needed to prevent the spreading of the arch supported by the tall, narrow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4343400" y="1905120"/>
          <a:ext cx="441972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05120"/>
                    <a:ext cx="441972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ink break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 up the density of air and then tell me what mass of air would occupy a volume of 30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y of a substance of uniform composition is defined as its mass per unit vol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I) or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1000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3124080" y="3276720"/>
          <a:ext cx="14479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144792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ies of most liquids and solids vary slightly with changes in temperature and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sities of gases vary greatly with changes in temperature and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the ratio of its density to the density of water at 4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water at 4° C is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gravity is a unitless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SG of mercu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exerted by a fluid on a submerged object at any point i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the surface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1752480" y="5105520"/>
                <a:ext cx="30495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8" name="Picture 8" descr="0908a"/>
          <p:cNvPicPr/>
          <p:nvPr/>
        </p:nvPicPr>
        <p:blipFill>
          <a:blip r:embed="rId1"/>
          <a:stretch/>
        </p:blipFill>
        <p:spPr>
          <a:xfrm>
            <a:off x="5425920" y="2017800"/>
            <a:ext cx="32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calibrated by a known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the fluid exerts on the piston is then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0908b"/>
          <p:cNvPicPr/>
          <p:nvPr/>
        </p:nvPicPr>
        <p:blipFill>
          <a:blip r:embed="rId1"/>
          <a:stretch/>
        </p:blipFill>
        <p:spPr>
          <a:xfrm>
            <a:off x="5300640" y="2017800"/>
            <a:ext cx="34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ation of Pressure with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fluid is at rest in a container, all portions of the fluid must be in static equilibrium,(or else what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ints at the same depth must be at the same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, the fluid would not be in equilib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id would flow from the higher pressure region to the lower pressure region (leaving an unacceptable vacu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darker region, assumed to be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a cross-sectional are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s to a depth h below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external forces act o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aw to this equilibrium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0911b"/>
          <p:cNvPicPr/>
          <p:nvPr/>
        </p:nvPicPr>
        <p:blipFill>
          <a:blip r:embed="rId1"/>
          <a:stretch/>
        </p:blipFill>
        <p:spPr>
          <a:xfrm>
            <a:off x="5253120" y="2017800"/>
            <a:ext cx="359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algebra please…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+ mg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bu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=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 and V=A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for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 using the book’s nomenclatur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 +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= 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normal atmospheric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 = 14.7 lb/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does not depend upon the shape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15" descr="0912"/>
          <p:cNvPicPr/>
          <p:nvPr/>
        </p:nvPicPr>
        <p:blipFill>
          <a:blip r:embed="rId1"/>
          <a:stretch/>
        </p:blipFill>
        <p:spPr>
          <a:xfrm>
            <a:off x="5181480" y="2362320"/>
            <a:ext cx="3657600" cy="293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1981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gg z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gauge pressure 20m below the surface of sea wate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absolute pressu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hange in pressure applied to an enclosed fluid is transmitted undimished to every point of the fluid and to the walls of the contain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recognized by Blaise Pascal, a French scientist (1623 – 166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ydraulic press is an important application of Pascal’s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d in hydraulic brakes, forklifts, car lif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1371600" y="358128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0" name="Picture 8" descr="0914a"/>
          <p:cNvPicPr/>
          <p:nvPr/>
        </p:nvPicPr>
        <p:blipFill>
          <a:blip r:embed="rId1"/>
          <a:stretch/>
        </p:blipFill>
        <p:spPr>
          <a:xfrm>
            <a:off x="5145120" y="2560680"/>
            <a:ext cx="3809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solute vs. Gauge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sure P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P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is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gau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n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end of the U-shaped tube is open to the atmo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end is connected to the pressure to be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at B i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ρ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5105520" y="1981080"/>
          <a:ext cx="3741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81080"/>
                    <a:ext cx="3741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od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od pressure is measured with a special type of manometer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ygmomano-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is measured in m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6" descr="0917"/>
          <p:cNvPicPr/>
          <p:nvPr/>
        </p:nvPicPr>
        <p:blipFill>
          <a:blip r:embed="rId1"/>
          <a:stretch/>
        </p:blipFill>
        <p:spPr>
          <a:xfrm>
            <a:off x="5881680" y="2017800"/>
            <a:ext cx="233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 Bar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by Torricelli (1608 – 164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 closed tube is filled with mercury and inverted in a dish of merc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atmospheric pressure as ρ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7" descr="0916b"/>
          <p:cNvPicPr/>
          <p:nvPr/>
        </p:nvPicPr>
        <p:blipFill>
          <a:blip r:embed="rId1"/>
          <a:stretch/>
        </p:blipFill>
        <p:spPr>
          <a:xfrm>
            <a:off x="6019920" y="2017800"/>
            <a:ext cx="206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Values in Various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of pressure is defined as the pressure equivalent to a column of mercury exactly 0.76 m t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 where g = 9.806 6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(1 atm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6.0 c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7 l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cules are held in specific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lectrical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brate about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modeled as springs connecting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0901"/>
          <p:cNvPicPr/>
          <p:nvPr/>
        </p:nvPicPr>
        <p:blipFill>
          <a:blip r:embed="rId1"/>
          <a:stretch/>
        </p:blipFill>
        <p:spPr>
          <a:xfrm>
            <a:off x="5145120" y="2173320"/>
            <a:ext cx="3809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7 – 212 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k mathematician, physicist, and engin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6" descr="09p283"/>
          <p:cNvPicPr/>
          <p:nvPr/>
        </p:nvPicPr>
        <p:blipFill>
          <a:blip r:embed="rId1"/>
          <a:stretch/>
        </p:blipFill>
        <p:spPr>
          <a:xfrm>
            <a:off x="5145120" y="205272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'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bject completely or partially submerged in a fluid is buoyed up by a force whose magnitude is equal to the weight of the fluid displaced by the obje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ward forc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ysical cause of the buoyant force is the pressure difference between the top and the bottom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0918a"/>
          <p:cNvPicPr/>
          <p:nvPr/>
        </p:nvPicPr>
        <p:blipFill>
          <a:blip r:embed="rId1"/>
          <a:stretch/>
        </p:blipFill>
        <p:spPr>
          <a:xfrm>
            <a:off x="5145120" y="2046240"/>
            <a:ext cx="3809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buoyant force always equals the weight of the displaced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the same for a totally submerged object of any size, shape, or d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1752480" y="3581280"/>
          <a:ext cx="47912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4791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exerted by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ther an object sinks or floats depends on the relationship between the buoyant force and the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ownward gravitational force is w=mg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is B-w=(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g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less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experiences a net upwar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7" descr="0919a"/>
          <p:cNvPicPr/>
          <p:nvPr/>
        </p:nvPicPr>
        <p:blipFill>
          <a:blip r:embed="rId1"/>
          <a:stretch/>
        </p:blipFill>
        <p:spPr>
          <a:xfrm>
            <a:off x="5450040" y="2017800"/>
            <a:ext cx="319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more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accelerat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0919b"/>
          <p:cNvPicPr/>
          <p:nvPr/>
        </p:nvPicPr>
        <p:blipFill>
          <a:blip r:embed="rId1"/>
          <a:stretch/>
        </p:blipFill>
        <p:spPr>
          <a:xfrm>
            <a:off x="5494320" y="201780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is in static 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alanced by the downward force of gra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me of the fluid displaced corresponds to the volume of the object beneath the fluid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s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1523880" y="3200400"/>
                <a:ext cx="2210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2" name="Picture 15" descr="0920"/>
          <p:cNvPicPr/>
          <p:nvPr/>
        </p:nvPicPr>
        <p:blipFill>
          <a:blip r:embed="rId1"/>
          <a:stretch/>
        </p:blipFill>
        <p:spPr>
          <a:xfrm>
            <a:off x="5145120" y="2994120"/>
            <a:ext cx="3809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s can be applied to the solid and compress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odel, the springs would be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orce is removed, the solid returns to its original shape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perty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ove this for tonight’s homework!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209680" y="3048120"/>
                <a:ext cx="502920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f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article that passes a particular point moves exactly along the smooth path followed by particles that passed the point ear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lamin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is the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treamlines cannot cross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amline at any point coincides with the direction of fluid velocity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38" name="Picture 3" descr="0926"/>
          <p:cNvPicPr/>
          <p:nvPr/>
        </p:nvPicPr>
        <p:blipFill>
          <a:blip r:embed="rId1"/>
          <a:stretch/>
        </p:blipFill>
        <p:spPr>
          <a:xfrm>
            <a:off x="3048120" y="2438280"/>
            <a:ext cx="5852880" cy="3851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09480" y="251460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line flow shown around an auto in a wind 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low becomes ir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eds a certa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condition that causes abrupt changes 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dy currents are a characteristic of turbulent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tating blade (dark area) forms a vortex in heated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ck of the burner is at the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rbulent air flow occurs on both sides of the bl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6" descr="0927"/>
          <p:cNvPicPr/>
          <p:nvPr/>
        </p:nvPicPr>
        <p:blipFill>
          <a:blip r:embed="rId1"/>
          <a:stretch/>
        </p:blipFill>
        <p:spPr>
          <a:xfrm>
            <a:off x="5549760" y="2017800"/>
            <a:ext cx="299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 Flow: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cosity is the degree of internal friction in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nal friction is associated with the resistance between two adjacent layers of the fluid moving relative to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nonvisc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internal friction between adjacent l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incompr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density is cons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tion is ste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velocity, density, and pressure do not change in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ves without turbu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eddy currents are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ments have zero angular velocity about its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he cross-sectional area of a pipe and the fluid speed is a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is high where the pipe is narrow and speed is low where the pipe has a large di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ow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0928a"/>
          <p:cNvPicPr/>
          <p:nvPr/>
        </p:nvPicPr>
        <p:blipFill>
          <a:blip r:embed="rId1"/>
          <a:stretch/>
        </p:blipFill>
        <p:spPr>
          <a:xfrm>
            <a:off x="5145120" y="2440080"/>
            <a:ext cx="38098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ation is a consequence of conservation of mass and a steady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 =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quivalent to the fact that the volume of fluid that enters one end of the tube in a given time interval equals the volume of fluid leaving the tube in the sa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the fluid is incompressible and there are no lea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Flow rate hints at continuity equation……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toilet pipe riser starts out at 30cm. Diameter and finishes at 20cm. Diameter. If water starts at 1200liters/second what will its speed be at the smaller end in m/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rystalline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have an ordered struc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ample is sa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y spheres represent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spheres represent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0902a"/>
          <p:cNvPicPr/>
          <p:nvPr/>
        </p:nvPicPr>
        <p:blipFill>
          <a:blip r:embed="rId1"/>
          <a:stretch/>
        </p:blipFill>
        <p:spPr>
          <a:xfrm>
            <a:off x="5145120" y="2344680"/>
            <a:ext cx="38098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niel Bernoul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00 – 178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ss physicist and mathematic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rodyna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did work that was the beginning of the kinetic theory of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6" descr="09p292"/>
          <p:cNvPicPr/>
          <p:nvPr/>
        </p:nvPicPr>
        <p:blipFill>
          <a:blip r:embed="rId1"/>
          <a:stretch/>
        </p:blipFill>
        <p:spPr>
          <a:xfrm>
            <a:off x="5504040" y="2017800"/>
            <a:ext cx="309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s pressure to fluid speed and ele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noulli’s equation is a consequence of Conservation of Energy applied to an ideal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e fluid is incompressible and nonviscous, and flows in a nonturbulent, steady-state m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s that the sum of the pressure, kinetic energy per unit volume, and the potential energy per unit volume has the same value at all points along a stream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209680" y="5105520"/>
                <a:ext cx="4876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Bernoulli’s Principle: Venturi Tub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s fluid flowing through a horizontal constricted 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changes as diameter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measure the speed of the flui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ftly moving fluids exert less pressure than do slowly moving flu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7" descr="0930a"/>
          <p:cNvPicPr/>
          <p:nvPr/>
        </p:nvPicPr>
        <p:blipFill>
          <a:blip r:embed="rId1"/>
          <a:stretch/>
        </p:blipFill>
        <p:spPr>
          <a:xfrm>
            <a:off x="5145120" y="2730600"/>
            <a:ext cx="3809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Object Moving Through a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ommon phenomena can be explained by Bernoulli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par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n object moving through a fluid is acted upon by a net upward force as the result of any effect that causes the fluid to change its direction as it flows pas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Golf B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mples in the golf ball help move air along it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l pushes the air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Third Law tells us the air must push up on the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inning ball travels farther than if it were not sp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6" descr="0933"/>
          <p:cNvPicPr/>
          <p:nvPr/>
        </p:nvPicPr>
        <p:blipFill>
          <a:blip r:embed="rId1"/>
          <a:stretch/>
        </p:blipFill>
        <p:spPr>
          <a:xfrm>
            <a:off x="5145120" y="3049560"/>
            <a:ext cx="38098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Airplane W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speed above the wing is greater than the speed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pressure above the wing is less than the air pressure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upward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actors are also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0936"/>
          <p:cNvPicPr/>
          <p:nvPr/>
        </p:nvPicPr>
        <p:blipFill>
          <a:blip r:embed="rId1"/>
          <a:stretch/>
        </p:blipFill>
        <p:spPr>
          <a:xfrm>
            <a:off x="5149800" y="2017800"/>
            <a:ext cx="3800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r. B’s =n put to use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molecule A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equally in al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B is not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lecules above to act o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toward the center of the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7" descr="0939"/>
          <p:cNvPicPr/>
          <p:nvPr/>
        </p:nvPicPr>
        <p:blipFill>
          <a:blip r:embed="rId1"/>
          <a:stretch/>
        </p:blipFill>
        <p:spPr>
          <a:xfrm>
            <a:off x="5591160" y="2017800"/>
            <a:ext cx="291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loser Look at the Surface of Liqu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un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ape of the surface depends upon the relative size of the cohesive and adhesive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orphous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are arranged almost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includ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0902b"/>
          <p:cNvPicPr/>
          <p:nvPr/>
        </p:nvPicPr>
        <p:blipFill>
          <a:blip r:embed="rId1"/>
          <a:stretch/>
        </p:blipFill>
        <p:spPr>
          <a:xfrm>
            <a:off x="5145120" y="2079720"/>
            <a:ext cx="380988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esive forces are greater than the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lings to the walls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“wets” the 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7" descr="0943a"/>
          <p:cNvPicPr/>
          <p:nvPr/>
        </p:nvPicPr>
        <p:blipFill>
          <a:blip r:embed="rId1"/>
          <a:stretch/>
        </p:blipFill>
        <p:spPr>
          <a:xfrm>
            <a:off x="5145120" y="2292480"/>
            <a:ext cx="38098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urv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does not “wet”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0943b"/>
          <p:cNvPicPr/>
          <p:nvPr/>
        </p:nvPicPr>
        <p:blipFill>
          <a:blip r:embed="rId1"/>
          <a:stretch/>
        </p:blipFill>
        <p:spPr>
          <a:xfrm>
            <a:off x="5145120" y="220680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y action is the result of surface tension and ad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quid rises in the tube when adhesive forces are greater than co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point of contact between the liquid and the solid, the upward forces are as shown in the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7" descr="0945"/>
          <p:cNvPicPr/>
          <p:nvPr/>
        </p:nvPicPr>
        <p:blipFill>
          <a:blip r:embed="rId1"/>
          <a:stretch/>
        </p:blipFill>
        <p:spPr>
          <a:xfrm>
            <a:off x="5402160" y="2017800"/>
            <a:ext cx="329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, the 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vel of the fluid in the tube will be below the surface of the surrounding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7" descr="0946"/>
          <p:cNvPicPr/>
          <p:nvPr/>
        </p:nvPicPr>
        <p:blipFill>
          <a:blip r:embed="rId1"/>
          <a:stretch/>
        </p:blipFill>
        <p:spPr>
          <a:xfrm>
            <a:off x="5272200" y="2017800"/>
            <a:ext cx="355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iscous Fluid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cosity refers to friction between th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in a viscous fluid have different velo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locity is greatest at the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esive forces between the fluid and the walls slow down the fluid on the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8" descr="0947b"/>
          <p:cNvPicPr/>
          <p:nvPr/>
        </p:nvPicPr>
        <p:blipFill>
          <a:blip r:embed="rId1"/>
          <a:stretch/>
        </p:blipFill>
        <p:spPr>
          <a:xfrm>
            <a:off x="5145120" y="2952720"/>
            <a:ext cx="38098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port Phenomen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ment of a fluid may be due to differences in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movement due to a pressure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is the number of molecules per uni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will flow from an area of high concentration to an area of low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osm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on the left is higher than on the right of the imaginary barr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of the molecules on the left can pass to the right, but few can pass from right to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movement from the higher concentration to the lower concen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0950"/>
          <p:cNvPicPr/>
          <p:nvPr/>
        </p:nvPicPr>
        <p:blipFill>
          <a:blip r:embed="rId1"/>
          <a:stretch/>
        </p:blipFill>
        <p:spPr>
          <a:xfrm>
            <a:off x="3684600" y="2017800"/>
            <a:ext cx="2766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smosi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mosis is the movement of water from a region where its concentration is high, across a selectively permeable membrane, into a region where its concentration is 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that allows passage of some molecules, but not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3,14,17,19,20a,22,23,24,25,26, 28,30,33,34,36,42,43,45,47,48,       51,81,8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s at a higher temperature than sol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“wander” through the liquid in a random fash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molecular forces are not strong enough to keep the molecules in a fixed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0902c"/>
          <p:cNvPicPr/>
          <p:nvPr/>
        </p:nvPicPr>
        <p:blipFill>
          <a:blip r:embed="rId1"/>
          <a:stretch/>
        </p:blipFill>
        <p:spPr>
          <a:xfrm>
            <a:off x="5307120" y="2017800"/>
            <a:ext cx="348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volu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are in constant random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exert only weak forces on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distance between molecules is large compared to the size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0:25:17Z</dcterms:created>
  <dc:creator>Marilyn Akins</dc:creator>
  <dc:description/>
  <dc:language>en-US</dc:language>
  <cp:lastModifiedBy>gandella</cp:lastModifiedBy>
  <dcterms:modified xsi:type="dcterms:W3CDTF">2010-09-29T15:50:03Z</dcterms:modified>
  <cp:revision>36</cp:revision>
  <dc:subject/>
  <dc:title>Chapter 9</dc:title>
</cp:coreProperties>
</file>